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027-DBBA-4355-A3A2-64A59D01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C91-9061-49EE-9DBE-FC19B8F7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C38-4AF1-4A87-ACA2-08F36BE7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399-3994-41D9-B920-526BC1A2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D1FF-4682-48CD-9CFB-D2F8D64F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E381-13FB-469D-807D-164C0B68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2939-A060-4F50-8E3A-C54D3E7F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3110-4126-429F-835C-C3842088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B6A3-AC96-4FC7-892A-ACE36F62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B8C-8A48-4D76-99FA-3661D368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1393-5581-4105-8BCD-A76158A6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E5B-8912-426E-A9DB-15D602A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1619-2634-4C41-AFAE-A9CCCF5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166D-F70C-462B-B46B-EB298B4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AE16-7C1A-4EE3-828D-92E15A5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B48F-6B19-418B-85AA-5D706D26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5A88-92A3-4575-A41D-F02567C6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88A-14C2-46AC-B5C3-BDD24CEC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40A-4003-4DB0-8912-C3B3DBA5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D58-7054-4BD0-9698-8582DFD7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079-2DE4-45FB-862A-31927E4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7FE-C903-471F-84A8-D876F6F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5F5-AC0B-4E90-B304-1D2B925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67B-873E-4205-AB2D-54C9584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C36-4D6E-491B-80AF-E0409B1DB7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B664-46FF-40A7-93B1-C95B50ABA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../../Exemple%20de%20numere%20divizibile%20cu%202.doc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../../divizibilitate/div.4.doc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../divizibilitate/div.3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5c984"/>
                </a:solidFill>
                <a:latin typeface="Arial"/>
              </a:rPr>
              <a:t>Divizibilitatea numerelor natur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Criterii de divizibilit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5c984"/>
                </a:solidFill>
                <a:latin typeface="Arial"/>
              </a:rPr>
              <a:t>I.Criterii care depind de </a:t>
            </a: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45c984"/>
                </a:solidFill>
                <a:latin typeface="Arial"/>
              </a:rPr>
              <a:t>ltima cifr</a:t>
            </a: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ă a numărul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</a:t>
            </a:r>
            <a:r>
              <a:rPr b="0" lang="ro-RO" sz="32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divizibil cu 2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că şi numai dacă ultima sa cifră este 0,2,4,6 sau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619280" y="2492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divizibil cu 5 dacă şi numai dacă ultima sa cifr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0 sau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divizibil cu 10 dacă şi numai dacă ultima sa cifră este 0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619360" cy="174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II.Criterii care depind de ultimele două cif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86d1ec"/>
                </a:solidFill>
                <a:latin typeface="Arial"/>
              </a:rPr>
              <a:t>Criteriul de divizibilitate cu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Un număr natural e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divizibil cu 4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acă şi numa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acă ultimele două cifre 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le formează un număr divizibil cu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86d1ec"/>
                </a:solidFill>
                <a:latin typeface="Arial"/>
              </a:rPr>
              <a:t>Criteriul de divizibilitate cu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Un număr natural este divizibil cu 25 dacă şi numai dacă ultimele două cifre ale sale formează un număr divizibil cu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651640" y="1700280"/>
            <a:ext cx="2857320" cy="18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III.Criterii care depind de suma cifrelor numărului natu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</a:t>
            </a:r>
            <a:r>
              <a:rPr b="0" lang="ro-RO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divizibil cu 3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că şi numai dacă suma cifrelor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un număr divizibil cu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divizibil cu 9 dacă şi numai dacă suma cifrelor sale este un număr divizibil cu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804000" y="2708280"/>
            <a:ext cx="165564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4:36Z</dcterms:created>
  <dc:creator>cursant</dc:creator>
  <dc:description/>
  <dc:language>en-US</dc:language>
  <cp:lastModifiedBy>cursant</cp:lastModifiedBy>
  <dcterms:modified xsi:type="dcterms:W3CDTF">2010-09-02T08:19:19Z</dcterms:modified>
  <cp:revision>5</cp:revision>
  <dc:subject/>
  <dc:title> Divizibilitatea numerelor natur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